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CED-0545-416C-9D3E-D9B3072B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41E-B8A6-4B6D-AC42-7DFBB428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2B0-D14A-4FC6-AAF4-53BCF346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2D20-C7F3-4A07-8A0C-EFC32F72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14AC-D13F-4C2A-B5CE-1BC1BBE8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EDC-7095-446A-A046-211B1E76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F101-870D-4D66-81B2-0B868B3D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AF9-5ACA-4C01-98A3-FB0FC6E1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CD9-F4E7-4CBF-9724-4D582793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402-8E76-4F3A-83EA-930566EE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A44-6C78-4DE2-869F-5C3AB2C7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264-0A6B-47F9-815D-227AF3C9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674E-7D6D-499E-B334-10D150B5C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clipartmax.com/png/full/53-530950_family-if-clip-art-family-of-four-cartoon.png" TargetMode="External"/><Relationship Id="rId2" Type="http://schemas.openxmlformats.org/officeDocument/2006/relationships/hyperlink" Target="https://2.bp.blogspot.com/-dKiI2GQDof4/Vs2YkBQd_pI/AAAAAAAAE9M/ZtpyHjmkmms/s1600/0_1203fa_da456e24_orig.png" TargetMode="External"/><Relationship Id="rId3" Type="http://schemas.openxmlformats.org/officeDocument/2006/relationships/hyperlink" Target="http://duymovochka5.ucoz.ru/_si/1/00474402.png" TargetMode="External"/><Relationship Id="rId4" Type="http://schemas.openxmlformats.org/officeDocument/2006/relationships/hyperlink" Target="http://4.bp.blogspot.com/-zQ3FsCdmS1E/VN4QqqvSUSI/AAAAAAAADGI/8x9wXjmR65k/s1600/0_7fadd_35e7d31d_XL.png" TargetMode="External"/><Relationship Id="rId5" Type="http://schemas.openxmlformats.org/officeDocument/2006/relationships/hyperlink" Target="https://blog.domeny.pl/wp-content/uploads/2014/10/28-smiley-face-on-beach.jpg" TargetMode="External"/><Relationship Id="rId6" Type="http://schemas.openxmlformats.org/officeDocument/2006/relationships/hyperlink" Target="http://f3.mylove.ru/vW96YZc52B.png" TargetMode="External"/><Relationship Id="rId7" Type="http://schemas.openxmlformats.org/officeDocument/2006/relationships/hyperlink" Target="https://3.bp.blogspot.com/-IKRhVU4FwE0/V9nWjeIrKKI/AAAAAAAAAYQ/idrkWaEHJoAffg5RvIaKV3h5M-i4xvZcwCLcB/s320/girl-studying-clip-art-846954.png" TargetMode="External"/><Relationship Id="rId8" Type="http://schemas.openxmlformats.org/officeDocument/2006/relationships/hyperlink" Target="https://img-fotki.yandex.ru/get/5503/tatyana2q8-medvedeva.1c0/0_59099_5250ac8_S.jpg" TargetMode="External"/><Relationship Id="rId9" Type="http://schemas.openxmlformats.org/officeDocument/2006/relationships/hyperlink" Target="https://cdn3.static1-sima-land.com/items/3844648/1/700-nw.jpg" TargetMode="External"/><Relationship Id="rId10" Type="http://schemas.openxmlformats.org/officeDocument/2006/relationships/hyperlink" Target="https://cdn.pixabay.com/photo/2015/11/14/23/13/frame-1043801__340.png" TargetMode="External"/><Relationship Id="rId11" Type="http://schemas.openxmlformats.org/officeDocument/2006/relationships/hyperlink" Target="https://www.pinclipart.com/picdir/big/224-2243199_iphone-emoji-facepalm-man-clipart.png" TargetMode="External"/><Relationship Id="rId12" Type="http://schemas.openxmlformats.org/officeDocument/2006/relationships/hyperlink" Target="https://1.bp.blogspot.com/-AMyXPrAx3Dk/XVamfVm6J4I/AAAAAAAADwg/pi8wZdX0SmIYwvTKm5R454htSoht6KVZACLcBGAs/s320/question.png" TargetMode="External"/><Relationship Id="rId13" Type="http://schemas.openxmlformats.org/officeDocument/2006/relationships/hyperlink" Target="http://900igr.net/up/datai/216918/0002-001-.png" TargetMode="External"/><Relationship Id="rId14" Type="http://schemas.openxmlformats.org/officeDocument/2006/relationships/hyperlink" Target="https://m.arhcity.ru/data/115/VNIMAY.gif" TargetMode="External"/><Relationship Id="rId15" Type="http://schemas.openxmlformats.org/officeDocument/2006/relationships/hyperlink" Target="https://avatars.mds.yandex.net/get-pdb/1946597/efe97658-d9dd-4b95-b89e-ec0ce712fac4/s375" TargetMode="External"/><Relationship Id="rId16" Type="http://schemas.openxmlformats.org/officeDocument/2006/relationships/hyperlink" Target="https://1.bp.blogspot.com/-gitQBBlKXtM/V0L63E5Rw7I/AAAAAAAAHoI/bZiiLztTQho3qVlBCn9iIY5I4e9Y8CblQCLcB/s1600/27.png" TargetMode="External"/><Relationship Id="rId17" Type="http://schemas.openxmlformats.org/officeDocument/2006/relationships/hyperlink" Target="https://www.seekpng.com/png/full/324-3243549_ch-b-butterfly-cartoon-image-transparent-background.png" TargetMode="External"/><Relationship Id="rId18" Type="http://schemas.openxmlformats.org/officeDocument/2006/relationships/hyperlink" Target="https://img.123clipartpng.com/column-method-for-subtraction-subtraction-clipart-928_547.jpg" TargetMode="External"/><Relationship Id="rId19" Type="http://schemas.openxmlformats.org/officeDocument/2006/relationships/hyperlink" Target="https://www.clipartmax.com/png/full/214-2142992_&#1096;&#1082;&#1086;&#1083;&#1072;-school.png" TargetMode="External"/><Relationship Id="rId20" Type="http://schemas.openxmlformats.org/officeDocument/2006/relationships/hyperlink" Target="https://demotivation.ru/wp-content/uploads/2020/04/8lrqHYf35_ItgtZ4GlqEA_8rX2wPswerljs6-ddT-Xpuxdl6AEDhOapB8crU0U_uU8pKMiL4lVh7gY3KM5kXSKYKrjmPqob6OdeWPQNr5B-3L3YtfuJStvIXJumfV-kbFpA.png" TargetMode="External"/><Relationship Id="rId21" Type="http://schemas.openxmlformats.org/officeDocument/2006/relationships/hyperlink" Target="https://avatars.mds.yandex.net/get-pdb/1367830/b06a2ae0-c4b7-4839-963c-a2bb336d53da/s1200?webp=false" TargetMode="External"/><Relationship Id="rId22" Type="http://schemas.openxmlformats.org/officeDocument/2006/relationships/image" Target="../media/image22.png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0f1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4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2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0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8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6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648320" y="0"/>
            <a:ext cx="4495680" cy="68580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1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blipFill rotWithShape="0">
            <a:blip r:embed="rId2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0f1f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15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0f1f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5345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clipartmax.com/png/full/53-530950_family-if-clip-art-family-of-four-cartoon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2.bp.blogspot.com/-dKiI2GQDof4/Vs2YkBQd_pI/AAAAAAAAE9M/ZtpyHjmkmms/s1600/0_1203fa_da456e24_orig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duymovochka5.ucoz.ru/_si/1/00474402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4.bp.blogspot.com/-zQ3FsCdmS1E/VN4QqqvSUSI/AAAAAAAADGI/8x9wXjmR65k/s1600/0_7fadd_35e7d31d_XL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blog.domeny.pl/wp-content/uploads/2014/10/28-smiley-face-on-beach.jp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f3.mylove.ru/vW96YZc52B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s://3.bp.blogspot.com/-IKRhVU4FwE0/V9nWjeIrKKI/AAAAAAAAAYQ/idrkWaEHJoAffg5RvIaKV3h5M-i4xvZcwCLcB/s320/girl-studying-clip-art-846954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s://img-fotki.yandex.ru/get/5503/tatyana2q8-medvedeva.1c0/0_59099_5250ac8_S.jp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s://cdn3.static1-sima-land.com/items/3844648/1/700-nw.jp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s://cdn.pixabay.com/photo/2015/11/14/23/13/frame-1043801__340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s://www.pinclipart.com/picdir/big/224-2243199_iphone-emoji-facepalm-man-clipart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s://1.bp.blogspot.com/-AMyXPrAx3Dk/XVamfVm6J4I/AAAAAAAADwg/pi8wZdX0SmIYwvTKm5R454htSoht6KVZACLcBGAs/s320/question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900igr.net/up/datai/216918/0002-001-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s://m.arhcity.ru/data/115/VNIMAY.gif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s://avatars.mds.yandex.net/get-pdb/1946597/efe97658-d9dd-4b95-b89e-ec0ce712fac4/s375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s://1.bp.blogspot.com/-gitQBBlKXtM/V0L63E5Rw7I/AAAAAAAAHoI/bZiiLztTQho3qVlBCn9iIY5I4e9Y8CblQCLcB/s1600/27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s://www.seekpng.com/png/full/324-3243549_ch-b-butterfly-cartoon-image-transparent-background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s://img.123clipartpng.com/column-method-for-subtraction-subtraction-clipart-928_547.jp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s://www.clipartmax.com/png/full/214-2142992_%D1%88%D0%BA%D0%BE%D0%BB%D0%B0-school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s://demotivation.ru/wp-content/uploads/2020/04/8lrqHYf35_ItgtZ4GlqEA_8rX2wPswerljs6-ddT-Xpuxdl6AEDhOapB8crU0U_uU8pKMiL4lVh7gY3KM5kXSKYKrjmPqob6OdeWPQNr5B-3L3YtfuJStvIXJumfV-kbFpA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s://avatars.mds.yandex.net/get-pdb/1367830/b06a2ae0-c4b7-4839-963c-a2bb336d53da/s1200?webp=false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ttp://i.mycdn.me/i?r=AzGBqNaF5OQp2lMpnhRx4DEFXn9--4K89CZ0bFXxXjxly-21oIjVFzIaD0Mx8614eqM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ttps://www.freshgujarat.com/wp-content/uploads/2018/10/STD-1-To-8-Test-Paper-All-Subject-1.png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2" descr=""/>
          <p:cNvPicPr/>
          <p:nvPr/>
        </p:nvPicPr>
        <p:blipFill>
          <a:blip r:embed="rId22"/>
          <a:stretch/>
        </p:blipFill>
        <p:spPr>
          <a:xfrm>
            <a:off x="152280" y="23760"/>
            <a:ext cx="908388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1-01-11T10:21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